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E97-D562-44A7-850A-9254422B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8BC-2456-4068-9CBA-ADD2845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A39-748F-416C-A7DE-08F8EA0B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C98-25CC-492B-99D6-6ED0394D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84E0-ED9B-474F-BC4D-E3E139BC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47A-FD31-41C2-B3B7-2377773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F87-8452-4550-9335-37FE6E4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7C7-33CE-4546-BD15-752A50B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07A-C88B-4C45-BFC1-FB4FC99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946-56A0-492C-B9EF-82F4E2C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8D8-EDAC-4FC7-A86F-F16391F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98B-23D9-4B0F-AAE1-DAAD800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110-C843-48CA-9855-E828AC7E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3020-EB18-4B13-9EAD-F575939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5D6-3033-4217-BE14-72D62FDC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AA9-7F1A-442C-BCB2-D00D15E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2A6-AD82-4696-BD32-0654C73D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D34-4AE7-497F-A16D-1CD187A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CCF-1C61-4FAA-884F-6A20D42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B21-293F-41FA-BB18-1A9E78A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031-D94C-481B-8D9F-8597863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A75-B435-47F2-918A-50EF9CF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556-753C-42C0-BE83-180AF05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A16-9E14-4C25-B2A0-237C37E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1E1-933E-44F4-B1D9-0AAD516190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FCF-1CF0-476F-8852-0FBE75281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fzibran@ucalgary.ca" TargetMode="External"/><Relationship Id="rId3" Type="http://schemas.openxmlformats.org/officeDocument/2006/relationships/hyperlink" Target="http://www.ucalgary.ca/~mfzibran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:00 PM – 4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11 AM-12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Time Box Assignmen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Excel Spreadshe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Access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 Nov: Problem Solv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1 due on Oct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2 due on Nov 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45:42Z</dcterms:created>
  <dc:creator>Fahim</dc:creator>
  <dc:description/>
  <dc:language>en-US</dc:language>
  <cp:lastModifiedBy>Fahim</cp:lastModifiedBy>
  <dcterms:modified xsi:type="dcterms:W3CDTF">2008-09-15T21:04:12Z</dcterms:modified>
  <cp:revision>13</cp:revision>
  <dc:subject/>
  <dc:title>CPSC 203 Tutorial Section: T32</dc:title>
</cp:coreProperties>
</file>